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99C-8EA1-4F93-A087-C63587A8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5B9-9851-4275-8B0F-6795DD7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9FD-1213-4576-84F5-2E064B0A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5D0-301C-48C6-B3AC-84306ED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DC6-6E64-41C7-AE75-1486192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196-E5E8-48D8-A985-9BE3D4B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9D9-C556-43F8-A806-7D6DFB62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627-9B21-4669-A18E-AC99A29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497-0600-4377-A2F7-E079BA81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87B-F1A9-4D97-A8E6-58D537C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EE8-4193-4FE6-B182-A227BEE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FDB-E9B1-4CE8-B67A-2BE9414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0A7-7A90-4797-BD0B-E72F2A36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d fill in the pi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_________ is a mixture of gases that surrounds a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_______ is the weight of the air in the atmosphere pressing down on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keeps our atmosp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ir from drifting out int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: pie chart showing that air is made up of nitrogen (78%), oxygen (21%) and other gases (1%)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1828800"/>
            <a:ext cx="1219320" cy="609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1143000"/>
            <a:ext cx="7621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920"/>
            <a:ext cx="1066680" cy="3045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2819520"/>
            <a:ext cx="17524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236988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6781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troposphere, temperature _____with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ratosphere, temperature ______with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layer is found in the stra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yer that contains 75% of our air and our weather is called is the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atmospher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up into lay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based upon their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diagra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curv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320040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osp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earth is round, the earth is heated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radiation is strongest or more direct intense at th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Radiation is weakest and more indirect at th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temperature imbalance—_____ equator and _______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moves heat from the equator to the poles by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our ______ and weather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2286000"/>
            <a:ext cx="2057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tmosphere is made of 21%_____ and 78%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ing _____ into our atmosphere can destroy the ozon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ive in the ____ where all our weather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 is a fast high altitude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% of radiation form the sun is absorbed and ___% is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sh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_ bree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___ is a human pollu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600200"/>
            <a:ext cx="17524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764" t="6784" r="6906" b="5086"/>
          <a:stretch/>
        </p:blipFill>
        <p:spPr>
          <a:xfrm>
            <a:off x="4495680" y="4348080"/>
            <a:ext cx="4648320" cy="2509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reflects the most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ven cooling and heating rates create _____ &amp; _____ bre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 ______ occurs during the day when air from the ocean moves in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 ______ occurs at night when air from the land moves towards the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reezes and land breezes transfer heat by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3906720"/>
            <a:ext cx="5105520" cy="295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133720"/>
            <a:ext cx="17524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13716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1143000"/>
          <a:ext cx="2590920" cy="27734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762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ll the table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ce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A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more ____at the equator and more ____out at the poles, this creates warm temperatures near the ____ and cold temperatures near the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At the _____hot air rises along the equ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Steady winds called the____ move our weather and storms across the Unites States (we live in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The ______ effect causes our winds to curve or d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in the stratosphere is important because it ______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heats up and cools more quickly than water creating _____ and ____ bre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2514600"/>
            <a:ext cx="1600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io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the space shuttle and is the boundary between space and our atmosphe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our weath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the ozone 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_____ causes meteors to burn u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rth’s atmosphere is divided up into layers that are based upon their 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ery time you breath, you take in 21 % _____ and 78%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54640" y="3143160"/>
            <a:ext cx="2889360" cy="3714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1981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 is the zone around the equator where hot air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east to west and lie between 0 and 3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west to east and lie between 30 and 6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east to west and lie between 60 and 9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 blow our weather across the united states (west to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676520"/>
            <a:ext cx="17524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40:06Z</dcterms:created>
  <dc:creator>jfuller</dc:creator>
  <dc:description/>
  <dc:language>en-US</dc:language>
  <cp:lastModifiedBy>jfuller</cp:lastModifiedBy>
  <dcterms:modified xsi:type="dcterms:W3CDTF">2011-12-05T21:47:27Z</dcterms:modified>
  <cp:revision>60</cp:revision>
  <dc:subject/>
  <dc:title>Atmosphere Bellwork</dc:title>
</cp:coreProperties>
</file>